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WHOOSH.WAV" ContentType="audio/x-wav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267-D7BA-4B7B-BB73-D7A072E9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822-51D1-4348-B1D9-71B1429E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F22-EBA4-449B-AC9A-8DA0008C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D58-2AF2-4A58-A83A-8C36EC2A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E940-13FA-4561-804D-99B22A42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54C7-2FA1-4766-999B-FDBD8AAF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F199-62D0-4115-B6B8-121A09A9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1E67-88AB-4A5F-9C89-91DFFB62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3715-BC80-49F8-8593-73ACA6ED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2475-60D5-427F-9D43-E2E2649C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2ED6-AEAD-44E8-8874-6D0B697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B36-0BE0-4B96-BA28-F65B3F1F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8B44-7401-4050-8E98-2E74F60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2E30-30D7-4186-B26D-397C6F5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B001-EAB4-40D9-A2D8-603E126C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C1C7-E048-4265-A321-3E2CEB4C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2981-797F-4E04-8AD9-B28B5557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C88-726E-4EFD-8487-D35D0A76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25C-0A73-4296-9D84-8CEA3DCA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F2A-393D-4D3D-8DC1-545252AA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642-8117-4CB3-A38A-B59CEF9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529-7385-41AE-805E-81D21905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FDC-92B7-4B08-954C-BED7498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CC1-944A-4F7C-B7CD-1A6FAE80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91AA-20B9-4B61-902E-AB6813B074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06B6-7361-476E-BE45-7CAE1BE580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Leadership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4572000"/>
            <a:ext cx="1665000" cy="1827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29400" y="4275000"/>
            <a:ext cx="2111400" cy="258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2766960" cy="2401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191120" y="4114800"/>
            <a:ext cx="182376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572000" y="1600200"/>
            <a:ext cx="2716200" cy="2652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Leadership Trai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e intelligent than non-lea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hola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ing able to get things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esn’t see to be correl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12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al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rbal fac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nes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gres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-conf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mbiti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igi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c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apta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Leadership Sty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7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eg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 relationship/ low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po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lling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ticip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 relationship/ low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ilitate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le but unwi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l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 task/high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lain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lling but u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 Task/Low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vide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osely superv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New Leaders Take Not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eneral Ad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ke advantage of the transition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 advice and couns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w empathy to prede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arn lead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ed knowledge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tablish new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 equilibr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ew Leader Tr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learning quick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ow-it-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eeping existing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king on too mu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tured by wrong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ccessor syndr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505320" cy="2362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ven Basic Princi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ve two to three years to make measurable financial and cultural prog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e in knowing current strategy, goals, and challenges.  Form hypothesis on operating prior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lance intense focus on priorities with flexibility on implementation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even Basic Principles, con’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cide about new organization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uild personal credibility and moment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rn right to transform ent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ember there is no “one” way to manage a tran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ore Tas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447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e Moment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ster technologies of learning, visioning, and coalition buil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age one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22760" y="2308320"/>
            <a:ext cx="4013280" cy="3325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reate Momentu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01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ndation for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ision of how the organization will loo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ild political base to support chan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ify culture to fit 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rn and know about comp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uring early win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rst set short term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achieved make a big d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uld fit long term strate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reate Momentu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uild cred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anding but can be satis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cessible but not too famili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cused but flex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 make tough calls but hum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31080" y="1886040"/>
            <a:ext cx="1196640" cy="4172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Master Technolog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rn from internal and external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isioning - develop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sh vs. pull too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values does the strategy embr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behaviors are need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municate the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mple tex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Best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ear meaning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Do it yourself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What is leadership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05120"/>
            <a:ext cx="3048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d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19520"/>
            <a:ext cx="419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uenc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3886200"/>
            <a:ext cx="3962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and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029200"/>
            <a:ext cx="3276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uid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1643040" cy="2641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281240" cy="3073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Enabling Technologies, con’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525760"/>
            <a:ext cx="4013280" cy="2890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alition buil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n’t ignore poli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chnical change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litical management isn’t same as being pol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 blocking coal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ild political 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Manage Onesel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 self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e your leadership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et advice and couns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ice is from expert to l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unsel is in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ypes of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isor tra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e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ustwort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hance your st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3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8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How Far Can You Go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613120" cy="4064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Types of Leader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 by the position achie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 by personality, charis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 by mor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 by power h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llectual l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 because of ability to accomplish th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Managers vs. Leader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cus on th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things r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llows the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2400" y="1676160"/>
            <a:ext cx="452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cus 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the right th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sp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lu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iv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ui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hape ent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Common Activiti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8120" y="2057040"/>
            <a:ext cx="3124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n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rect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ol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9600" y="2057400"/>
            <a:ext cx="4237200" cy="480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Planning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ts targ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tablishes detailed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locates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vises strate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ts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es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2333880" cy="4064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Organizing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es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ob descri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eg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52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ets people on board for strate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Directing Work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lves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goti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ings to consen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752120"/>
            <a:ext cx="3149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powers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eerl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133720" cy="278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ag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ements control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formance meas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ntifies vari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xes vari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iv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sp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ives sense of accompl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9T19:38:51Z</dcterms:created>
  <dc:creator/>
  <dc:description/>
  <dc:language>en-US</dc:language>
  <cp:lastModifiedBy>system8</cp:lastModifiedBy>
  <dcterms:modified xsi:type="dcterms:W3CDTF">2008-08-05T07:18:03Z</dcterms:modified>
  <cp:revision>10</cp:revision>
  <dc:subject/>
  <dc:title/>
</cp:coreProperties>
</file>